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808036A-D7F5-4739-A0E8-E933CC70C5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236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3268440" y="512640"/>
            <a:ext cx="336708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/ITK    T.Tammet     loeng: listid             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17BFC687-A01B-465D-9354-5ED115A84192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2BE4CD-3041-4063-AD4F-A6D6951EFEB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-5544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lis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9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Reading in a file, consisting of r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, and only then convert to an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ccessing N-th element is very fast, even in N is big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Not so for lis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8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dding a new element is f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Deleting an existing element is f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Not so for array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8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9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52480" y="2057400"/>
            <a:ext cx="6475680" cy="2587680"/>
            <a:chOff x="1752480" y="2057400"/>
            <a:chExt cx="6475680" cy="2587680"/>
          </a:xfrm>
        </p:grpSpPr>
        <p:sp>
          <p:nvSpPr>
            <p:cNvPr id="193" name=""/>
            <p:cNvSpPr/>
            <p:nvPr/>
          </p:nvSpPr>
          <p:spPr>
            <a:xfrm>
              <a:off x="1752480" y="2057400"/>
              <a:ext cx="6475680" cy="258768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2057400"/>
              <a:ext cx="64756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98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Find the place in list, keep previous node in 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Construct a new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et the old previous node point to new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et new node point to next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0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2120"/>
            <a:ext cx="89154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1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Primitive data types like integers, floats, 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rr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tructures or classes which can be used for lists 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Class definitions for keep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1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762120"/>
            <a:ext cx="784872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2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2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762120"/>
            <a:ext cx="8763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3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762120"/>
            <a:ext cx="89154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3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4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4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762120"/>
            <a:ext cx="7848720" cy="74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lo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tr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rrays of 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Etc etc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 Java, every class has class Object as a top level par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Let us make a stack and queue of elements of type Objec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25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r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black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57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: recursive node count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762120"/>
            <a:ext cx="8534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Tree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lef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righ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countNodes( TreeNode root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oot == null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0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1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left);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right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coun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ountNo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62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3577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 as a universal data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ary trees can be used to construct any other datatype, including lists, arrays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ften it is faster and more efficient to use other datatypes directly, not through simulating them via binary tre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p and scheme: two datatypes used: binary trees (with list syntax) and array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lackboard: construct the following list as a  binary tre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    (1   2)    ()     ((e)  f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68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fficiency of standard operations on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762120"/>
            <a:ext cx="7848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rted arra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slow (every element is looked throu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slow (all elements to the right must be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rted arra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use binary search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slow (all elements to the right must be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slow (every element is looked throu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elements to the right are not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nary (balanced) sort tre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binary sear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elemetns to the right are not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73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8487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8487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1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67640" y="1103400"/>
            <a:ext cx="927000" cy="642600"/>
            <a:chOff x="6767640" y="1103400"/>
            <a:chExt cx="927000" cy="642600"/>
          </a:xfrm>
        </p:grpSpPr>
        <p:sp>
          <p:nvSpPr>
            <p:cNvPr id="115" name=""/>
            <p:cNvSpPr/>
            <p:nvPr/>
          </p:nvSpPr>
          <p:spPr>
            <a:xfrm>
              <a:off x="6767640" y="11034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7640" y="11034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15000" y="2514600"/>
            <a:ext cx="927000" cy="642600"/>
            <a:chOff x="5715000" y="2514600"/>
            <a:chExt cx="927000" cy="642600"/>
          </a:xfrm>
        </p:grpSpPr>
        <p:sp>
          <p:nvSpPr>
            <p:cNvPr id="118" name=""/>
            <p:cNvSpPr/>
            <p:nvPr/>
          </p:nvSpPr>
          <p:spPr>
            <a:xfrm>
              <a:off x="5715000" y="25146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25146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772400" y="4876920"/>
            <a:ext cx="927000" cy="642600"/>
            <a:chOff x="7772400" y="4876920"/>
            <a:chExt cx="927000" cy="642600"/>
          </a:xfrm>
        </p:grpSpPr>
        <p:sp>
          <p:nvSpPr>
            <p:cNvPr id="121" name=""/>
            <p:cNvSpPr/>
            <p:nvPr/>
          </p:nvSpPr>
          <p:spPr>
            <a:xfrm>
              <a:off x="7772400" y="487692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87692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657600"/>
            <a:ext cx="927000" cy="642600"/>
            <a:chOff x="4876920" y="3657600"/>
            <a:chExt cx="927000" cy="642600"/>
          </a:xfrm>
        </p:grpSpPr>
        <p:sp>
          <p:nvSpPr>
            <p:cNvPr id="124" name=""/>
            <p:cNvSpPr/>
            <p:nvPr/>
          </p:nvSpPr>
          <p:spPr>
            <a:xfrm>
              <a:off x="4876920" y="36576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6576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5410080" y="3119400"/>
            <a:ext cx="53352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1747440"/>
            <a:ext cx="685800" cy="130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538760" y="1747440"/>
            <a:ext cx="314280" cy="366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13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3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990720" y="2585880"/>
            <a:ext cx="91440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240" y="3733920"/>
            <a:ext cx="1478520" cy="581400"/>
            <a:chOff x="228240" y="3733920"/>
            <a:chExt cx="1478520" cy="581400"/>
          </a:xfrm>
        </p:grpSpPr>
        <p:sp>
          <p:nvSpPr>
            <p:cNvPr id="148" name=""/>
            <p:cNvSpPr/>
            <p:nvPr/>
          </p:nvSpPr>
          <p:spPr>
            <a:xfrm>
              <a:off x="228600" y="3733920"/>
              <a:ext cx="1477800" cy="5792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24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52480" y="3429000"/>
            <a:ext cx="6247080" cy="3011040"/>
            <a:chOff x="1752480" y="3429000"/>
            <a:chExt cx="6247080" cy="3011040"/>
          </a:xfrm>
        </p:grpSpPr>
        <p:sp>
          <p:nvSpPr>
            <p:cNvPr id="156" name=""/>
            <p:cNvSpPr/>
            <p:nvPr/>
          </p:nvSpPr>
          <p:spPr>
            <a:xfrm>
              <a:off x="1752480" y="3429000"/>
              <a:ext cx="6247080" cy="29304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3429000"/>
              <a:ext cx="624708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240" y="1981080"/>
            <a:ext cx="1478520" cy="581400"/>
            <a:chOff x="228240" y="1981080"/>
            <a:chExt cx="1478520" cy="581400"/>
          </a:xfrm>
        </p:grpSpPr>
        <p:sp>
          <p:nvSpPr>
            <p:cNvPr id="159" name=""/>
            <p:cNvSpPr/>
            <p:nvPr/>
          </p:nvSpPr>
          <p:spPr>
            <a:xfrm>
              <a:off x="228600" y="1981080"/>
              <a:ext cx="1477800" cy="57960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24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1219320" y="1671480"/>
            <a:ext cx="533160" cy="31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8-11-24T09:43:55Z</dcterms:modified>
  <cp:revision>1</cp:revision>
  <dc:subject/>
  <dc:title> </dc:title>
</cp:coreProperties>
</file>